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1EE-9DAB-45B4-BA5E-A2CBD9B5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6AF-FCF4-42E0-8DCA-BDCCDE13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D94-D8C4-4FBA-A455-7E012CF9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911-5E89-40AC-B85E-A3E6155B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C28-1AE0-4B2C-9C82-EB163839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88A-068E-4569-9DF9-8E98DC4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29F-5438-46BE-86E3-8BDD85BD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B63-F814-482E-ACD2-77FCC643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2B4-4866-4ECA-8A85-2AE076D0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890-1A00-4F4B-8924-D134765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924-05D4-457E-BF32-8086A6E2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F27-6342-4725-B442-BC972DEF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78C5-E8DC-40A7-803F-8540B95B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4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all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ll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sound reasoning, arguments, and/or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evaluating,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most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most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, however, some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inferential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some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ome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ttempt to cite and explain some content-specific examples, and/or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concrete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 skills in a lite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emonstrates any aspect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few directions, steps, and or procedures or non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inaccurate or inappropriat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little or no evidence of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little or no evidence of any apparent reaso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20:01:43Z</dcterms:created>
  <dc:creator>student</dc:creator>
  <dc:description/>
  <dc:language>en-US</dc:language>
  <cp:lastModifiedBy>student</cp:lastModifiedBy>
  <dcterms:modified xsi:type="dcterms:W3CDTF">2012-11-13T20:02:04Z</dcterms:modified>
  <cp:revision>1</cp:revision>
  <dc:subject/>
  <dc:title>Level 4 Rubric</dc:title>
</cp:coreProperties>
</file>